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F11F5-4E89-45DB-B4D9-1E57926E3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A7DF7-ACDD-4D97-9466-6A771698E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4D124-8DC7-4F91-A246-9C0431482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CE18D-4670-4017-A25C-C37C62713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D3661-3B73-46EF-906A-315DEF9DF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CDA1D-AB1C-42BF-A4A0-5CD8BB294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1E490-7E07-44AD-8898-48A6941E7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09481-ABA8-4CB9-87B4-BB282450D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C52BE-19A4-4F81-AEA7-5AE63D8AA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0D1ED-30F5-46E5-B86D-C2D043497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CFD58-149B-41E7-A3D2-927888F68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4041B-6DD8-4447-B8F4-01B0EF8B5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B0CBD-D3D4-4D9D-A0FC-6F156B5E0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F003D-1BA1-4705-B66D-D67E07298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925C7-C5D9-4CAF-8865-104E321CF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28F61-1B1C-4E51-8EB7-4C7CE34EA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86726-BB56-4E01-9FAC-9AEDDFAAC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DE575-F944-47E9-AB79-FFDBE7ECE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2AA93-13D1-4BBD-A52B-97BC4EDCA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073B3-865C-4FE5-96D5-DECFE3C9A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B615D-843F-4554-BDF7-FF8D11E91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224EA-14E7-46B5-A206-2FB0F5030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6A073-6D64-490E-A8E2-EDAA2CA88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5526F-1DDB-4854-A405-310B5AA65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62FE8-66D8-4BFB-A24E-869054B99E2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8FC74-89C8-423C-9450-3A570287EB3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3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원의 권리•의무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의무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소극적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치 활동의 금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집단 행위의 제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영리업무 및 겸직금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권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광의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육을 받을 권리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육을 할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익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헌법의 교육의 기회를 균등하게 받을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친권적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모의 자녀에 대한 교육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위탁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가 교육할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제사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고등전문직으로서의 자유재량권 행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권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협의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윌슨의 저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반행정 당국으로부터 교육당국의 독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유로운 교육의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정의 제정 및 운영에의 참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당한 지배로부터의 자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학의 학문적 자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주적인 단체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란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는 어떻게 부여 받는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는 어떻게 지키는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언행일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위로서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통제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기술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급별에 따라서 교원의 권위는 달라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권위의 구성 요인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권위의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유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신수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통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합리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1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 자신의 내재적 권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덕적 사회적 성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2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외재적 요인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지적 이론적 측면에서의 수월성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3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제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의 요인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권위에 대한 학생의 태도와 심리적 경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크라테스는 왜 죽었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너 자신을 알라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악법도 법이다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우리의 권리와 의무는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신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정 직업인으로서 교사자격증을 가지고 정규 학교에서 학생들을 대상으로 교육활동을 하는 전문적인 직업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유치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초등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중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공민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기술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수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각종학교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&amp;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산업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방송통신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기술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각종학교 등의 공•사립의 모든 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설강습소와 직업훈련원은 아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종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등학교와 특수학교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직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와 직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원과 배치는 대통령령으로 정한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총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임강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예교수 추대는 대통령령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.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정직원과 조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치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정 교모 이하인 경우는 원감을 두지 않을 수 있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)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초등학교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&amp;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학교의 교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종류의 교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 자격 종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1, 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급 정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준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상담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서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건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기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 자격 종류는 직위가 아니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직교사는 업무 분장상의 보직 명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그러나 직위 또는 자격이 아니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적극적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적 교육활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극적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신분보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권침해 사항 방지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적극적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율성의 신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적 능력의 자율성 보장과 함께 사회적 책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치적 중립성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생활보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보수 수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p. 10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무조건 개선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급당 인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업 부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잡무 과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지•후생제도의 확충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연금체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녀학비 및 장학금 지급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무주택 교원 지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소극적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신분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쟁송제기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징계의 사유와 종류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. 118 &amp;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-11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이내에 재심 위원회에 재심 요청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연장 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6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이내에 행정 소송 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불체포특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행범이 아닐 경우에는 학교장의 동의 요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직단체 활동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의무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적극적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 및 연구활동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복종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품위 유지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밀엄수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9T02:25:13Z</dcterms:created>
  <dc:creator>XPuser</dc:creator>
  <dc:description/>
  <dc:language>en-US</dc:language>
  <cp:lastModifiedBy>staff</cp:lastModifiedBy>
  <dcterms:modified xsi:type="dcterms:W3CDTF">2008-10-10T05:14:04Z</dcterms:modified>
  <cp:revision>8</cp:revision>
  <dc:subject/>
  <dc:title>제 3장 교원의 권리•의무</dc:title>
</cp:coreProperties>
</file>